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526-9A16-4444-A4C7-4048ABBC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AF0-C3D0-42CB-99B8-228BA247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4E2F-4F6D-4294-B9FA-806C36EA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A99-BCA5-4108-BD5F-1A17DCAD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2B17-1AFF-4835-9A9D-63B045F3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6648-63FF-4AA5-AC33-C41EEE8B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EE1D-6E78-43D5-AAD7-416A66B2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8B7D-8B90-4436-8D6C-55130817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88DE-6610-4DA6-A46E-E6571873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6449-3EEA-42E7-BCC1-83A7A259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0013-ABF8-475C-983A-3D8A5186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FD9-C85A-42B8-A60E-F820F977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5D28-636F-46E3-A43A-09729D7B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D5AF-C56F-4A3A-A271-76D96EB2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4199-33B5-45B2-9D07-E5996E3B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6757-2039-4B8B-A51A-2511D4BC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68E3-4D8A-4779-A8E5-4474D555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CA52-2C1D-4269-833E-0BB90928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99279-3288-4FCC-A0F7-50757DD7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BF50-6171-417A-BB05-5E1C04D4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3934-1A38-439F-887D-63F9B739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3C6C-61C3-468D-9432-58D76AAD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F27-79F3-4D55-9659-F93CBC3E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59D3D-C4AE-41B2-B4E1-5990A5ED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A447-856B-40CE-B2E9-31A377B5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DC97B-6164-4B82-B464-49C1E8DD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7A76-7AA6-496C-A908-96F7D92E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CEE3-46D5-4883-99C3-3E2F8165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D47F-93ED-44AA-9D57-7084C871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F339-915D-4906-B3ED-07B1C192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F242-421C-4564-8747-577728FF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F07B8-2275-430E-95E6-77BD8E27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B2ED-D09B-489C-BC06-49D165B8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0D6-0E3C-41D7-82A5-3D838679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F432F-A94A-46A5-920A-899133F0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1149-FCEA-450B-9DC3-11F9216B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3561A-A9FB-4696-ABD8-A3E4FC44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BF699-49CB-4263-8032-6261DBC7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FFEBE-3468-4F32-B08C-E7AB87E0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39C5-E08D-40A6-9F50-DCA9A783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255A1-C59F-440F-937B-FB3DB0A2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4E427-381E-4CFB-8110-20FDF62D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7483-373A-4D44-96F2-CA02874D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970CE-7054-4C61-B599-1FA27D5B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82D-381E-4E3D-8D7E-46870336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3B1D9-71BD-48C9-BDF6-F242B68F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C2A1-3798-4EAE-9C65-17C7E480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8E491-E788-4255-A839-E6DAD5DB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D2928-39BF-43B5-A0FB-511487B2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A23A-139F-45D0-B2D8-97B51742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A1EEF-1D00-4DB6-A02D-7FF22987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6ED5D-C5E3-4E0F-AC6B-B105541F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C4EF6-9137-439E-A4B9-11104817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BC983-FA74-4310-8397-5FD9FC86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B7C8F-99F0-4DEA-890D-4E824A3F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D94-0DD8-468A-88C6-ED8822DD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56773-942D-4B36-A653-3A354018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0CF04-0D35-4B28-B8E6-E923DBBE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3D45D-8C9F-4468-B1BA-53E417AC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55D45-4F87-4F66-9318-677CF6F1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0B89E-4C63-4D20-A17C-7BC92BF3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86AA3-0F60-43AD-AE97-13E2F262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62FB9-B0DE-43DD-A6B9-7B095006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B0CF8-4E2A-42B7-B4D3-0690D9B6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2F76F-9ED5-464B-954A-39E739C0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4CF7-AFD9-4FA2-879A-166C442F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7278-2C8C-4968-900C-9499FA4B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BA5C1-9307-4340-B0E3-0EECF8E5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74B05-C6BC-416A-8472-C5DDA6FA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8E1B-693C-409E-85EB-972E21AF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CFAF2-649A-42C4-8B6A-CEB38AEC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B21EF-93F4-4C6A-8B50-3A0D9F19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8E4B-4F64-4EFF-AE4F-BDF3AB61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F1E7E-E85F-4E9F-9B21-F5118423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10258-1628-42E8-9A57-03FD2E0F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47633-9CD6-4C3C-A232-9BED767D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B2BB3-247B-4524-AF22-51E9CAD7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823E-7313-4118-8984-12F78A3E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A1462-AE52-4A3B-8BB5-030BB5FC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3109F-D4CA-4337-B85D-5D423EC6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ECD64-59BB-40AA-808B-AF519ED1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E6505-77F1-4081-B652-5DC53A4C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699DE-F30B-4F49-841A-51E138FC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C20-43FC-4324-8D02-2D0341EA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0719-9A18-4D05-9F07-89389A799B3E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6482-ACA9-427D-8930-E2D7D803DCD5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C87D-411B-4DA8-8041-16A599612B8D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6370-4DDF-4E71-9126-EFA99723D75D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E464-ED24-4786-BBA7-342221539246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94CB-6FC6-48AF-BD46-8DC6B54DCDC7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FB7E-E877-4FA9-9E37-4C26F5B75F18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641F-62E2-4FBE-BEC1-3E5BBD3C14FD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0604-3B5E-4467-88F1-C3EB1D1BBC58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A92A-D591-4B42-945B-CE347D84BE45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3096-6B0F-4F95-92E1-E1F01B59BADC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80EF-79B6-47AF-AB95-2606C27D566F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4527-3E57-4F6A-811D-D3B1325A4A07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7279-98BC-4AB6-BF2C-0BDB1492E993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Huntingtonova_choroba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netika-biologie.cz/karyotyp-clovek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Numerick&#233;_chromozomov&#233;_abnormality" TargetMode="External"/><Relationship Id="rId2" Type="http://schemas.openxmlformats.org/officeDocument/2006/relationships/hyperlink" Target="http://wiki.medik.cz/index.php?title=Karyotyp&amp;redirect=no" TargetMode="External"/><Relationship Id="rId3" Type="http://schemas.openxmlformats.org/officeDocument/2006/relationships/hyperlink" Target="http://www.wikiskripta.eu/index.php/Turner&#367;v_syndrom" TargetMode="External"/><Relationship Id="rId4" Type="http://schemas.openxmlformats.org/officeDocument/2006/relationships/hyperlink" Target="http://www.wikiskripta.eu/index.php/Klinefelter&#367;v_syndrom" TargetMode="External"/><Relationship Id="rId5" Type="http://schemas.openxmlformats.org/officeDocument/2006/relationships/hyperlink" Target="http://www.wikiskripta.eu/index.php/Supermale_syndrom" TargetMode="External"/><Relationship Id="rId6" Type="http://schemas.openxmlformats.org/officeDocument/2006/relationships/hyperlink" Target="http://www.wikiskripta.eu/index.php/Syndrom_47,XXX" TargetMode="External"/><Relationship Id="rId7" Type="http://schemas.openxmlformats.org/officeDocument/2006/relationships/hyperlink" Target="http://www.wikiskripta.eu/index.php/Down&#367;v_syndrom" TargetMode="External"/><Relationship Id="rId8" Type="http://schemas.openxmlformats.org/officeDocument/2006/relationships/hyperlink" Target="http://www.wikiskripta.eu/index.php/Edwards&#367;v_syndrom" TargetMode="External"/><Relationship Id="rId9" Type="http://schemas.openxmlformats.org/officeDocument/2006/relationships/hyperlink" Target="http://www.wikiskripta.eu/index.php/Patau&#367;v_syndrom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539640" y="5373720"/>
            <a:ext cx="7920000" cy="1450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5280" y="189000"/>
            <a:ext cx="8569440" cy="47527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ázev školy: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Střední zdravotnická škola a vyšší odborná škola zdravotnická Karlovy Var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 Black"/>
              </a:rPr>
              <a:t>Vnitřní příčiny nemocí – genetické příči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VY_32_INOVACE_KLN.2.07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14.11.20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utor:</a:t>
            </a:r>
            <a:r>
              <a:rPr b="0" lang="cs-CZ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 Black"/>
              </a:rPr>
              <a:t>Veronika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Rausová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07 zahrnuje pojmy „genetické příčiny nemocí, chromozomální aberace, geneticky podmíněná onemocnění, dědičnost geneticky podmíněných onemocnění a multifaktoriálně podmíněná onemocnění“. Prezentace je zakončena sérií otázek k opakování a Test III shrnující kapitoly 6 a7 KLN – vnitřní a vnější příčiny nemocí/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ffc800"/>
                </a:solidFill>
                <a:latin typeface="Corbel"/>
              </a:rPr>
              <a:t>Geneticky podmíněná onemocnění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Genetické poruchy se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mohou DĚDIT 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 familiární výskyt a dědičné nemoci = cca 5000 různých chorob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Odhaduje se, že každý člověk je nositelem 5-8 poškozených genů. Většina z nich je recesivní a nevyvolávají vážnější změny fenotypu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řenášení genových mutací a dědič. onem.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ffc800"/>
                </a:solidFill>
                <a:latin typeface="Corbel"/>
              </a:rPr>
              <a:t>Dědičnost geneticky podmíněných onemocnění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rbel"/>
              </a:rPr>
              <a:t>AUTOZOMÁLNĚ DOMINANTNÍ DĚDIČNOST : hetrozygotní jedinci přenášejí postižení na 50% potomků (</a:t>
            </a:r>
            <a:r>
              <a:rPr b="0" lang="cs-CZ" sz="2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 Huntingtonova choroba</a:t>
            </a:r>
            <a:r>
              <a:rPr b="0" lang="cs-CZ" sz="2200" spc="-1" strike="noStrike">
                <a:solidFill>
                  <a:srgbClr val="000000"/>
                </a:solidFill>
                <a:latin typeface="Corbel"/>
              </a:rPr>
              <a:t>, neurofibromatóza,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 http://www.wikiskripta.eu/index.php/Neurofibromatosa ,  </a:t>
            </a:r>
            <a:r>
              <a:rPr b="0" lang="cs-CZ" sz="2200" spc="-1" strike="noStrike">
                <a:solidFill>
                  <a:srgbClr val="000000"/>
                </a:solidFill>
                <a:latin typeface="Corbel"/>
              </a:rPr>
              <a:t>familiární polypóza tlustého střeva, Marfanův syndrom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Marfan%C5%AFv_syndrom</a:t>
            </a:r>
            <a:r>
              <a:rPr b="0" lang="cs-CZ" sz="2200" spc="-1" strike="noStrike">
                <a:solidFill>
                  <a:srgbClr val="000000"/>
                </a:solidFill>
                <a:latin typeface="Corbel"/>
              </a:rPr>
              <a:t>… 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rbel"/>
              </a:rPr>
              <a:t>AUTOZOMÁLNĚ RECESIVNÍ DĚDIČNOST : projeví se za předpokladu mutace obou alel u daného jedince. Rodiče jsou heterozygoti, chorobou netrpí, ale přenášejí ji na potomky a to tak,  že nemocných je 25 %, zdravých 25% a 50% potomků přenáší nemoc na další generaci, aniž by měli příznaky choroby ( cystická fibróza, hemochromatóza, talasemie 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rbel"/>
              </a:rPr>
              <a:t>GONOZOMÁLNĚ RECESIVNÍ DĚDIČNOST: dědičnost je vázaná na X chromozom. Matky přenášejí mutaci na syny, ale samy onemocněním netrpí. U synů se onemocnění projevuje – např. hemofilie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ffc800"/>
                </a:solidFill>
                <a:latin typeface="Corbel"/>
              </a:rPr>
              <a:t>Multifaktoriálně podmíněné choroby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Multifaktoriálně ( polygenně ) podmíněné choroby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se projevují teprve při přítomnosti poškozených alel u většího počtu genů malého účinku, tzv. polygenů. Celá skupina genů kontroluje jeden znak. Výsledný fenotyp závisí i na prostředí, pohlaví a dalších vlivech. Př. : diabetes mellitus, ateroskleróza, některé karcinomy, hypertenze, vrozené srdeční vady, rozštěpy patra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Externí odkazy a obrázk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http://www.vrozene-vady.cz/prezentace/index.php?co=vyuka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Vrozené vady - fotogaleri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obrázky, anglick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 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Jak vypadá genetická výbava člověka = karyotyp – kolik chromozomů a jakých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Jsou ve všech buňkách těla stejné chromozomy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Jaké patologické karyotypy znáte? – tj. změny v počtu chromozomů. Jak se projevují? Mohou s nimi jejich nositelé žít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 je chromozomální aberace? Jak se stane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 je chromozomální mozaika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 je autozomálně dominantní dědičnost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 je autozomálně recesivní dědičnost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 je gonozomálněrecesivní dědičnost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Jmenujte co nejvíce geneticky podmíněných onemocnění a jejich projevy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8076960" cy="2249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VNITŘNÍ PŘÍČINY ONEMOCNĚNÍ – GENETICKY PODMÍNĚNÁ ONEMOCNĚNÍ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Genetické příčiny nemoc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Chromozomální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porucha počtu či tvaru chromozomů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Genové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(poruchy jednotlivých genů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Chromozomální abera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Genom člověka…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ormální karyotyp člověk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46, XX - že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46, XY - muž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genetika-biologie.cz/karyotyp-clovek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Chromozomální abera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orbel"/>
              </a:rPr>
              <a:t>zdravý člověk má v každé své buňce jádro s 46 chromozomy</a:t>
            </a: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   ( = karyotyp ) V tělních buňkách se vyskytuje diploidní jaderný genom, což v praxi znamená, že každý gen je přítomen v buňce dvakrát (výjimkou jsou geny na pohlavních chromozomech u muže). 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½ od matky, ½ od otc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22 párů =  ( homologní chromozomy ) autozomy + 2 pohlavní chromozomy = gonozomy : muž: X a Y, žena X a X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během vývoje a dělení zárodečných ( pohlavních ) buněk = spermií a vajíček( meiózy ) a v časných fázích vývoje vajíčka může dojít k chybě při rozdělení chromozomů ( nondisjunkci ). Vzniknou dvě dceřinné buňky : 1 s nadbytečným chromozomem = </a:t>
            </a: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TRIZOM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, v druhé chromozom chybí = </a:t>
            </a: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MONOZOM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Chromozomální aberace mohou být vázány na autozomy, nebo na gonozom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onozomatické buňky většinou nejsou schopny života a zanikají, trizomické někdy přežívají a dávají vzniknout vrozeně poškozenému jedinci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Chromozomální abera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atologické karyotypy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wikiskripta.eu/index.php/Numerick%C3%A9_chromozomov%C3%A9_abnormality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wiki.medik.cz/index.php?title=Karyotyp&amp;redirect=no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45, X - Turnerův syndrom (někdy zapisováno také jako 45, X0)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wikiskripta.eu/index.php/Turner%C5%AFv_syndrom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47, XXY - Klinefelterův sy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http://www.wikiskripta.eu/index.php/Klinefelter%C5%AFv_syndrom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47, XYY - super male sy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wikiskripta.eu/index.php/Supermale_syndrom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47, XXX - super female sy, triple X sy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6"/>
              </a:rPr>
              <a:t>http://www.wikiskripta.eu/index.php/Syndrom_47,XXX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47, XY, +21 nebo 47, XX, +21 - Downův sy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7"/>
              </a:rPr>
              <a:t>http://www.wikiskripta.eu/index.php/Down%C5%AFv_syndrom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47, XY, +18 nebo 47, XX, +18 - Edwardsův sy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8"/>
              </a:rPr>
              <a:t>http://www.wikiskripta.eu/index.php/Edwards%C5%AFv_syndrom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47, XY, +13 nebo 47, XX, +13 - Patauův sy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9"/>
              </a:rPr>
              <a:t>http://www.wikiskripta.eu/index.php/Patau%C5%AFv_syndrom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47, XY, +2 nebo 47, XX, +2 - Warkanyho s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Chromozomální abera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kromě změn v POČTU chromozomů dochází i ke změnám ve </a:t>
            </a: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STRUKTUŘ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 samotných chromozomů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ranslokace raménka chromozomu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inverze ( přetočení ) raménka chromozom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delece ( ztráta ) části chromozomu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duplikac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inverz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…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ůže zůstat zachován všechen chromozomální materiál, nevznikají zjevné příznaky ( =  vyrovnaná – balancovaná translokace 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v další generaci mohou vznikat výrazné genetické vad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u některých balancovaných aberací dochází u žen k opakovaným potratům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nebo může vzniknout jedinec s geneticky podmíněnou vrozenou vadou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Chromozomální abera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Vrozené chromosomální aberac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Tyto aberace jsou přítomné od narození, přesněji řečeno již od počátku vývoje příslušného jedince. Jsou přítomné ve všech buňkách těla (i v zárodečných buňkách) a mohou se přenášet na potomky. Typickým příkladem mohou být některé inverse či balancované translokac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Získané chromosomální aberac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Tyto aberace vznikají až v průběhu života příslušného jedince a to pouze v některých buňkách. Nepřenáší se na potomky. Typickým příkladem jsou chromosomální přestavby v nádorových buňkách. Jen asi 15 – 20% mutací patří mezi získané – vznikají v organismu nově – nedědí s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Jestliže dojde ke změnám ve struktuře chromozomů jen v některých buňkách dělící se zygoty, má takový jedinec ve svém těle potom dva typy buněk = CHROMOZOMOVÁ MOZAIK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Na vzniku chromozomálních odchylek ve vajíčku se podílí několik rizikových faktorů: vyšší věk ženy, záření, infekce, endokrinní poruchy a stres. Řada příčin zůstává neznámá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6:12:41Z</dcterms:created>
  <dc:creator>Veronika</dc:creator>
  <dc:description/>
  <dc:language>en-US</dc:language>
  <cp:lastModifiedBy>Chalupna</cp:lastModifiedBy>
  <dcterms:modified xsi:type="dcterms:W3CDTF">2014-03-31T20:48:32Z</dcterms:modified>
  <cp:revision>9</cp:revision>
  <dc:subject/>
  <dc:title>Snímek 1</dc:title>
</cp:coreProperties>
</file>